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D1A4-F046-4F46-864B-20E34F44E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FF4B-F4B6-4825-8B93-779C3678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AB37-E230-41CC-AFF6-C0B6E70F8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C3DF-F8B4-4540-8965-68E170500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C15A-5FE8-48B4-9085-5D348FBA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6B53-B27F-419A-B6DD-0216A6E3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9036-5F0E-470C-8F80-102F07C0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FEB3-3ACF-4B0A-91B1-8A32C850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5ECA-14F3-4B8A-8FA4-07B5C867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44F7-E7DB-49E9-AE48-B37FEB2A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EB24-2DDC-4111-A0CB-E0A7EAA4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7D5D-5A1C-4DCA-8EC4-66E830B9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A51C-249C-461A-9F81-9D8D24B08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Science fair projec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Tim Willi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weight of oil effect the viscos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that the heavier the oil, the more viscous it will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ker or graduate cyli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mo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w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50 ml. of oil in cyli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marble ½ inch above o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 mar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ime when marble hits o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 time when marble hits the bott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is three times and averag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it with other oils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… (Depende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l #1- (10w-40)– 5.57(average secon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l #2- (20w-50)– 4.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l#3- (80w-90)– 4.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conclusion is that the heavier weighted the oil is, the less viscous it will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4:54:03Z</dcterms:created>
  <dc:creator>USD376</dc:creator>
  <dc:description/>
  <dc:language>en-US</dc:language>
  <cp:lastModifiedBy>USD376</cp:lastModifiedBy>
  <dcterms:modified xsi:type="dcterms:W3CDTF">2012-03-08T14:40:10Z</dcterms:modified>
  <cp:revision>4</cp:revision>
  <dc:subject/>
  <dc:title>My Science fair project.</dc:title>
</cp:coreProperties>
</file>